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9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990D-89FF-4AC4-926A-526C183F8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F203-A079-4D02-883C-7C0044913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08C683B-BDDE-4276-9D88-A42B9E9A5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2D92591-BA8F-438C-B5FF-77DB51426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C2443E1-901F-4C3E-91F2-1481231A2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0618428-9FF6-46A4-B3BC-10457189F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E4020AB-6C1F-46D0-97E4-BA19551C1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450C57B-BFF8-4710-BF7C-E1673EB0A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3A04CB7-85CE-4312-8F00-459F69711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90C0F59-27AB-4093-B1E3-E2615807E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F2E006B-101A-4A7A-9DF6-DB6F7E4B1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A6BF-5272-488C-83FC-A0C04C0EB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FD5E-4928-4001-AEE8-96FE7C822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8E23E5-FCF5-4634-AE5F-1B2A01D9F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16017E-0E4C-493A-9F48-94076ED8C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E43B8A-16B2-4535-8975-7516B1BD3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94C78D-0FF0-43A2-BA9B-04856C675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2DE25F-2544-4825-8ECA-26441B20E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52E25F-3BFD-48D8-9894-3887F22EC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580DD6-93FE-4263-A8E2-DFD90E420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E6BB-1E0D-400E-A05C-67DFE7AAE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3FFEDF-DC05-4013-AEF2-AA52E357C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9C6727-13F4-4FC8-B3EC-7DECA9939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D292F9-2B0A-4FB9-8D74-56F094DDA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3F7D76-2DB3-40DD-A0F2-BD29C5758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246F9C-E583-45E2-8A6D-BDBA0B038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71A0C-4723-4577-8628-B5E930A34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0C3D5-61A9-4A18-8506-2BB3D38E2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70EDA-9712-4C6C-9401-FE1890E5B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8B4F1-8E52-4DA3-AB6F-2811F3707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38AB5-4C59-40B3-96B4-73D074DCB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5686-DAE4-41CF-8599-0AA002D7B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65774-C3C5-4FA4-85E6-201FEBF45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CF91E-DE0C-4AF6-A0C4-76507875F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73F8A-F120-427F-B023-28DE35702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9B368-2CAF-42ED-AD39-4A056A13A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A396C-9808-42BE-81B3-AC6BA8513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B815D-6284-4505-8386-39112DAD5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5DD10-DA7D-4E98-AAA0-4CF2252DF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283163-E37C-4DB9-89D4-8B3A15E0A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71B970-915A-4D1E-8DE5-BC368A2D2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AC520E-9207-41FA-9699-89AF84891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FABF-24A8-407E-A8AE-DC890DDD4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1991FD-D08C-494D-8E42-295838B01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D5EDC7-C2E0-4DC8-9FA9-EF6B4CF84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FDF19C-CDAC-4D36-92D6-BE8008A0E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5DCF5C-3877-4D67-BCB4-5153D2DCD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2CEAE3-116C-4578-BDCD-9A6F23F96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C467D9-512B-41B2-849B-F6426B0A1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67F403-C4F2-49F0-8233-74E2450E2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A2CDC3-741F-4945-8B98-B39156BA3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D21E13-8C46-4C89-9336-62544010F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E6B49C-3021-4B14-B15F-4BA52E535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F81A-A512-4ABC-90EC-B7B87B20D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550F5B-0BCF-44EC-BC98-F0D7A2442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66EED9-44D1-485D-80CC-2ADCB743F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66EF77-E6C0-46F4-9BE1-CB48960A1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F0A4A9-07B5-4F14-80B8-A4EAB9D80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478248-E8FE-48AE-883F-414D56049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758060-3B52-4487-9E4D-AA9E2B123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B01809-4010-4CFA-A0FD-8878120AA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AA45E6-9303-41DE-A3A0-3A1E8740E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34A585-F87F-4549-A0BD-0BDA76FC0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72FDAF-C779-4A7B-8C25-4EC06CC24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ABED-3BD1-4D03-AAEE-628D6A5EB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054ED-F0AD-468B-AD6B-A83E50867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036CC7-4A7F-42BD-B87F-4624662FF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4C3636-5A70-44E5-90C9-34E7F1A07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BAB1B2-8B14-4E9B-895C-681BF501E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EF1F39-6C63-4D13-AD26-8831D5E51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AA545D-551B-466E-9200-4ABF1E19A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2C66AF-E422-4F6E-B089-9B3EEEFFE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24E9A6-228C-48A7-9271-CC94378A2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7A793A-248F-4734-BB1C-3A7F65BB2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5C425A-42E4-44AB-83D3-C174F7448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0C8D-FE39-4101-A496-2B148C665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C27137-AED4-44BE-ABB6-DBC44CDFB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F44FE0-5011-46A5-BBA1-5BC238B85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C54C13-B9B4-4C2D-AF38-547F38490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57D237-22EE-4A5B-BC39-C2C5F64A3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066A23-D8D6-4DD0-9866-A8BAF12BB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BF7651-BECD-45DD-BB3A-22F0AC641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DA43B3-9A8E-40CC-A688-22054C763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BA7D34-749C-496F-B65F-44EDE6706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565CAE-C641-4B52-BB04-94BE056E1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E6807F-F47B-4F65-8229-B1FA0F9A0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9945-825D-4664-8B5F-491DB9C4F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3B670F-5525-4627-894F-722170F1D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5351F7-9568-4D01-B533-955B55B4B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B0CE2A-FA53-4903-BB93-BC972B9BE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BF6B8D-3C22-4187-B5E8-AC5BBAE6A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7A104C-2BB1-4238-AA3E-B818C666E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C52834E-47F5-4CE5-851F-D191C2150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07B0FC2-9FCC-4B00-A0FF-BF964B0A8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2A74D81-D3F8-4E7B-8722-56542B4BD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2C65EAA-AA42-4992-86A8-1E7CC49D0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12A07CB-134F-4BF9-A683-F34EE59FD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6C41-580C-44EA-BB21-41569A87B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052FF56-A3A5-431E-A656-742FA0A93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5A2CE3D-8368-45DA-9688-6CBCD4D65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C7E799D-8A93-4760-BB18-D0E07DB44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CCE5E5C-1D27-4A5A-B0C6-7E780BCC8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660CFD6-7499-4CC3-8F91-5B381D50C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D592FC7-46A5-4748-86CF-439AC4EFB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F3140C1-3EA5-40AC-939F-161198039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21E31D7-383E-40A6-9441-840B951F1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1A5BDD0-550C-462B-BA6A-A59691289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0E5277B-8BD4-4F0A-8AC2-38E1F1307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2B8E1-98AD-439F-B969-7FE6ECD4A7B9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45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8" name="Прямоугольник с двумя скругленными противолежащими углами 7" descr=""/>
            <p:cNvPicPr/>
            <p:nvPr/>
          </p:nvPicPr>
          <p:blipFill>
            <a:blip r:embed="rId4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37B47-9246-4E3F-B816-D74A923EA3D7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92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7A2E7-0C44-4B59-A0EA-45482876362D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3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9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4883B-0E2E-45D5-99C6-B3C54D88B48E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82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4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D0A5F-B975-4F34-A2FF-6204636BAE69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9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7185C-5AA9-4083-9A50-EDD8B20A07F8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73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5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D78B9-8351-4B77-8841-D320C2A81A2C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318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0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781DB-89D6-4C81-8C51-4915F7B6E8CF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2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363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49452-46AB-45E1-9875-230C68E425E1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4017960" y="1316160"/>
            <a:ext cx="4218120" cy="320040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4" descr=""/>
          <p:cNvPicPr/>
          <p:nvPr/>
        </p:nvPicPr>
        <p:blipFill>
          <a:blip r:embed="rId2"/>
          <a:srcRect l="22719" t="12251" r="25036" b="14260"/>
          <a:stretch/>
        </p:blipFill>
        <p:spPr>
          <a:xfrm>
            <a:off x="857160" y="1000080"/>
            <a:ext cx="3071880" cy="4357800"/>
          </a:xfrm>
          <a:prstGeom prst="rect">
            <a:avLst/>
          </a:prstGeom>
          <a:ln w="0">
            <a:noFill/>
          </a:ln>
        </p:spPr>
      </p:pic>
      <p:sp>
        <p:nvSpPr>
          <p:cNvPr id="408" name="Прямоугольник 3"/>
          <p:cNvSpPr/>
          <p:nvPr/>
        </p:nvSpPr>
        <p:spPr>
          <a:xfrm>
            <a:off x="71280" y="5715000"/>
            <a:ext cx="885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мятный 1812 год. Он связан с нашествием Наполеона. Несколько блестящих побед сделали его одним из самых известных людей Франции. Наполеон стремился к всемирному господству.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"/>
          <p:cNvPicPr/>
          <p:nvPr/>
        </p:nvPicPr>
        <p:blipFill>
          <a:blip r:embed="rId1"/>
          <a:stretch/>
        </p:blipFill>
        <p:spPr>
          <a:xfrm>
            <a:off x="500040" y="285840"/>
            <a:ext cx="8070840" cy="571500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3"/>
          <p:cNvSpPr/>
          <p:nvPr/>
        </p:nvSpPr>
        <p:spPr>
          <a:xfrm>
            <a:off x="0" y="5913000"/>
            <a:ext cx="892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ечислите страны, подвластные Наполеону.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Какие страны не покорились Наполеону?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Что оберегало Англию от сильной французской арми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1" descr=""/>
          <p:cNvPicPr/>
          <p:nvPr/>
        </p:nvPicPr>
        <p:blipFill>
          <a:blip r:embed="rId1"/>
          <a:stretch/>
        </p:blipFill>
        <p:spPr>
          <a:xfrm>
            <a:off x="-60480" y="244440"/>
            <a:ext cx="9990360" cy="4870440"/>
          </a:xfrm>
          <a:prstGeom prst="rect">
            <a:avLst/>
          </a:prstGeom>
          <a:ln w="0">
            <a:noFill/>
          </a:ln>
        </p:spPr>
      </p:pic>
      <p:sp>
        <p:nvSpPr>
          <p:cNvPr id="412" name="Прямоугольник 2"/>
          <p:cNvSpPr/>
          <p:nvPr/>
        </p:nvSpPr>
        <p:spPr>
          <a:xfrm>
            <a:off x="221040" y="6357960"/>
            <a:ext cx="376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означает название темы урока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1"/>
          <a:stretch/>
        </p:blipFill>
        <p:spPr>
          <a:xfrm>
            <a:off x="281160" y="4925880"/>
            <a:ext cx="8484840" cy="11574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3" descr=""/>
          <p:cNvPicPr/>
          <p:nvPr/>
        </p:nvPicPr>
        <p:blipFill>
          <a:blip r:embed="rId2"/>
          <a:stretch/>
        </p:blipFill>
        <p:spPr>
          <a:xfrm>
            <a:off x="2214720" y="285840"/>
            <a:ext cx="3927240" cy="5072040"/>
          </a:xfrm>
          <a:prstGeom prst="rect">
            <a:avLst/>
          </a:prstGeom>
          <a:ln w="0">
            <a:noFill/>
          </a:ln>
        </p:spPr>
      </p:pic>
      <p:sp>
        <p:nvSpPr>
          <p:cNvPr id="415" name="Rectangle 4"/>
          <p:cNvSpPr/>
          <p:nvPr/>
        </p:nvSpPr>
        <p:spPr>
          <a:xfrm>
            <a:off x="142920" y="6028560"/>
            <a:ext cx="90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в армии, и в народе всё чаще, всё громче говорили о полководце, который поведёт русские войска к победе, к спасению Росс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3" descr="C:\Documents and Settings\Admin\Рабочий стол\200px-Kutuzovborodino.jpg"/>
          <p:cNvPicPr/>
          <p:nvPr/>
        </p:nvPicPr>
        <p:blipFill>
          <a:blip r:embed="rId1"/>
          <a:stretch/>
        </p:blipFill>
        <p:spPr>
          <a:xfrm>
            <a:off x="285840" y="285840"/>
            <a:ext cx="4795920" cy="350028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2" descr="C:\Documents and Settings\Admin\Рабочий стол\200px-Vereshagin.Napoleon_near_Borodino.jpg"/>
          <p:cNvPicPr/>
          <p:nvPr/>
        </p:nvPicPr>
        <p:blipFill>
          <a:blip r:embed="rId2"/>
          <a:srcRect l="7795" t="0" r="0" b="0"/>
          <a:stretch/>
        </p:blipFill>
        <p:spPr>
          <a:xfrm>
            <a:off x="4000680" y="3143160"/>
            <a:ext cx="4827240" cy="3429000"/>
          </a:xfrm>
          <a:prstGeom prst="rect">
            <a:avLst/>
          </a:prstGeom>
          <a:ln w="0">
            <a:noFill/>
          </a:ln>
        </p:spPr>
      </p:pic>
      <p:sp>
        <p:nvSpPr>
          <p:cNvPr id="418" name="Прямоугольник 4"/>
          <p:cNvSpPr/>
          <p:nvPr/>
        </p:nvSpPr>
        <p:spPr>
          <a:xfrm>
            <a:off x="4714920" y="57168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М. И. Кутуз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на командном пункт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в ден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Бородинского сраж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TextBox 5"/>
          <p:cNvSpPr/>
          <p:nvPr/>
        </p:nvSpPr>
        <p:spPr>
          <a:xfrm>
            <a:off x="571680" y="4357800"/>
            <a:ext cx="307152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Наполео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осматривает позиции предстоящего бо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6300"/>
                            </p:stCondLst>
                            <p:childTnLst>
                              <p:par>
                                <p:cTn id="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"/>
          <p:cNvPicPr/>
          <p:nvPr/>
        </p:nvPicPr>
        <p:blipFill>
          <a:blip r:embed="rId1"/>
          <a:stretch/>
        </p:blipFill>
        <p:spPr>
          <a:xfrm>
            <a:off x="200160" y="187200"/>
            <a:ext cx="8756640" cy="335628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3" descr=""/>
          <p:cNvPicPr/>
          <p:nvPr/>
        </p:nvPicPr>
        <p:blipFill>
          <a:blip r:embed="rId2"/>
          <a:stretch/>
        </p:blipFill>
        <p:spPr>
          <a:xfrm>
            <a:off x="357120" y="3714840"/>
            <a:ext cx="4200480" cy="2786040"/>
          </a:xfrm>
          <a:prstGeom prst="rect">
            <a:avLst/>
          </a:prstGeom>
          <a:ln w="0">
            <a:noFill/>
          </a:ln>
        </p:spPr>
      </p:pic>
      <p:sp>
        <p:nvSpPr>
          <p:cNvPr id="422" name="TextBox 5"/>
          <p:cNvSpPr/>
          <p:nvPr/>
        </p:nvSpPr>
        <p:spPr>
          <a:xfrm>
            <a:off x="4714920" y="3500280"/>
            <a:ext cx="3429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Бородинское сраж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было самым кровопролитным за всю историю войн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Rectangle 5"/>
          <p:cNvSpPr/>
          <p:nvPr/>
        </p:nvSpPr>
        <p:spPr>
          <a:xfrm>
            <a:off x="4643280" y="5805000"/>
            <a:ext cx="335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происходило над полем?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выглядел бой?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Заголовок 1" descr=""/>
          <p:cNvPicPr/>
          <p:nvPr/>
        </p:nvPicPr>
        <p:blipFill>
          <a:blip r:embed="rId1"/>
          <a:stretch/>
        </p:blipFill>
        <p:spPr>
          <a:xfrm>
            <a:off x="2352600" y="480960"/>
            <a:ext cx="4413240" cy="131148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4" descr=""/>
          <p:cNvPicPr/>
          <p:nvPr/>
        </p:nvPicPr>
        <p:blipFill>
          <a:blip r:embed="rId2"/>
          <a:stretch/>
        </p:blipFill>
        <p:spPr>
          <a:xfrm>
            <a:off x="5643720" y="4357800"/>
            <a:ext cx="3174840" cy="226044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2" descr=""/>
          <p:cNvPicPr/>
          <p:nvPr/>
        </p:nvPicPr>
        <p:blipFill>
          <a:blip r:embed="rId3"/>
          <a:srcRect l="17873" t="12303" r="17873" b="16938"/>
          <a:stretch/>
        </p:blipFill>
        <p:spPr>
          <a:xfrm>
            <a:off x="173160" y="173160"/>
            <a:ext cx="1898640" cy="2427120"/>
          </a:xfrm>
          <a:prstGeom prst="rect">
            <a:avLst/>
          </a:prstGeom>
          <a:ln w="0">
            <a:noFill/>
          </a:ln>
        </p:spPr>
      </p:pic>
      <p:sp>
        <p:nvSpPr>
          <p:cNvPr id="427" name="Прямоугольник 4"/>
          <p:cNvSpPr/>
          <p:nvPr/>
        </p:nvSpPr>
        <p:spPr>
          <a:xfrm>
            <a:off x="2000160" y="1714680"/>
            <a:ext cx="564372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Скажи-ка, дядя, ведь не дар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сква, спаленная пожаром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ранцузу отдан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дь были ж схватки боевые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, говорят, еще какие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даром помнит вся Росс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 день Бородина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2" descr=""/>
          <p:cNvPicPr/>
          <p:nvPr/>
        </p:nvPicPr>
        <p:blipFill>
          <a:blip r:embed="rId1"/>
          <a:stretch/>
        </p:blipFill>
        <p:spPr>
          <a:xfrm>
            <a:off x="6072120" y="285840"/>
            <a:ext cx="2772000" cy="30844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3" descr=""/>
          <p:cNvPicPr/>
          <p:nvPr/>
        </p:nvPicPr>
        <p:blipFill>
          <a:blip r:embed="rId2"/>
          <a:stretch/>
        </p:blipFill>
        <p:spPr>
          <a:xfrm>
            <a:off x="3071880" y="2643120"/>
            <a:ext cx="2631960" cy="29289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"/>
          <p:cNvPicPr/>
          <p:nvPr/>
        </p:nvPicPr>
        <p:blipFill>
          <a:blip r:embed="rId3"/>
          <a:stretch/>
        </p:blipFill>
        <p:spPr>
          <a:xfrm>
            <a:off x="285840" y="285840"/>
            <a:ext cx="2695320" cy="3000240"/>
          </a:xfrm>
          <a:prstGeom prst="rect">
            <a:avLst/>
          </a:prstGeom>
          <a:ln w="0">
            <a:noFill/>
          </a:ln>
        </p:spPr>
      </p:pic>
      <p:sp>
        <p:nvSpPr>
          <p:cNvPr id="431" name="Прямоугольник 7"/>
          <p:cNvSpPr/>
          <p:nvPr/>
        </p:nvSpPr>
        <p:spPr>
          <a:xfrm>
            <a:off x="214200" y="3500280"/>
            <a:ext cx="26434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Отряд крестьян, отлично знающих все тропинки в лесу, выслеживает отступающих француз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Прямоугольник 9"/>
          <p:cNvSpPr/>
          <p:nvPr/>
        </p:nvSpPr>
        <p:spPr>
          <a:xfrm>
            <a:off x="2357280" y="5572080"/>
            <a:ext cx="50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Д. В. Давыдов — партизан-герой Отечественной войны 1812 го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Прямоугольник 10"/>
          <p:cNvSpPr/>
          <p:nvPr/>
        </p:nvSpPr>
        <p:spPr>
          <a:xfrm>
            <a:off x="5214960" y="3643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Нападение партизан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на французский обоз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Прямоугольник 7"/>
          <p:cNvSpPr/>
          <p:nvPr/>
        </p:nvSpPr>
        <p:spPr>
          <a:xfrm>
            <a:off x="0" y="6357960"/>
            <a:ext cx="871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очему весь народ поднялся на борьбу с захватчиками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28584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ambria"/>
              </a:rPr>
              <a:t>Отечественная война</a:t>
            </a:r>
            <a:endParaRPr b="0" lang="en-US" sz="6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ambria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ambria"/>
              </a:rPr>
              <a:t>1812 года</a:t>
            </a:r>
            <a:endParaRPr b="0" lang="en-US" sz="6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6" name="Прямоугольник 2"/>
          <p:cNvSpPr/>
          <p:nvPr/>
        </p:nvSpPr>
        <p:spPr>
          <a:xfrm>
            <a:off x="357120" y="6215040"/>
            <a:ext cx="878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Как можно назвать войну, в которой люди защищают свою Родину, свое Отечество?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4-01T13:53:00Z</dcterms:modified>
  <cp:revision>16</cp:revision>
  <dc:subject/>
  <dc:title>Слайд 1</dc:title>
</cp:coreProperties>
</file>